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D08-F708-4762-9A60-06DF27A7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970-409D-4A24-9FB1-8F9D9E3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686-29D3-4492-AC06-1A3D7B54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DD3-A496-4189-9DBF-3A6F1080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F76-9F08-4A24-84FF-26FD7108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B6EB-9EDC-461F-AC71-F390D0C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FD3-DEB0-4109-AC2F-1B38C3E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EA4-8A53-497A-B5BE-7B28FE3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ED8-CFDD-42C5-8651-51939E0D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7B4E-74D3-4D80-BB18-5BDECC3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F53-6DA3-4433-92BC-263021D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002-E4C4-49B8-8AA6-B25F7717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5D7-16E1-4315-97CC-FC172D89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5DE0-FDFA-4176-A045-81960C9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C41-AD10-4404-BEE0-BB28EB1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A37C-B342-45BF-9D24-5360F65E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2822-8349-4576-8CD6-AC15811F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976-0A28-45ED-A770-0DE116F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60D-3571-4EE5-9CAD-0735A3FA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1DF-1FF0-4E62-84D3-0B7FDF5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772-DA09-45F9-AC5A-CE2E0BD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1E3-0723-4F6F-BEB7-1E884CF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3BB-2D21-48D3-97B1-1E674D8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56E-BCBC-4689-A87B-4B724D7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693-DA08-4B9E-8DAC-6D26FE0924F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03C2-453B-4082-87DE-1897BDFD664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" TargetMode="External"/><Relationship Id="rId2" Type="http://schemas.openxmlformats.org/officeDocument/2006/relationships/hyperlink" Target="http://fab.sierracollege.edu/Projects/Ethics/Ethics%20Lesson%20Plan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10666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What are ethic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9132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Californian FB"/>
              </a:rPr>
              <a:t>PowerPoint compiled by:</a:t>
            </a:r>
            <a:r>
              <a:rPr b="0" lang="en-US" sz="1400" spc="-1" strike="noStrike">
                <a:solidFill>
                  <a:srgbClr val="336666"/>
                </a:solidFill>
                <a:latin typeface="Californian FB"/>
              </a:rPr>
              <a:t>                                                                                                                                                   Mrs. Tracy Kern, Harrisburg Family and Consumer Science Teacher, Harrisburg, SD.   Fall 2007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fornian FB"/>
              </a:rPr>
              <a:t>Eth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A system of moral princip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Study of values, of how we ought to l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Denotes systematic, rational reflection upon a particular behav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Definition taken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Ethics.”  2006.  AboutDictionary.com. 3 Sep 2007. &lt;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1"/>
              </a:rPr>
              <a:t>http://dictionary.reference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fornian FB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90440"/>
            <a:ext cx="7162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fornian FB"/>
              </a:rPr>
              <a:t>Val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 ideals, customs, institutions of a society toward which the people of the group have an affective reg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Values may be positive, as cleanliness, freedom, o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Values may be negative, as cruelty, crime, or blasphemy.</a:t>
            </a: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Definition taken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Ethics.”  2006.  AboutDictionary.com. 3 Sep 2007.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1"/>
              </a:rPr>
              <a:t>http://dictionary.referenc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Everyone Else Does It!”  Finance and Business.  Sierra Community College.  28 Aug 2007. &lt;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2"/>
              </a:rPr>
              <a:t>http://fab.sierracollege.edu/Projects/Ethics/Ethics%20Lesson%20Plan.htm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90440"/>
            <a:ext cx="7162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fornian FB"/>
              </a:rPr>
              <a:t>Mor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Distinction between right vs. wro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Concerned with the principles or rules of right con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Definition taken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Morals.”  2006.  AboutDictionary.com. 3 Sep 2007. &lt;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1"/>
              </a:rPr>
              <a:t>http://dictionary.reference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fornian FB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90440"/>
            <a:ext cx="8458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Could the decision become habit form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so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Leg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it isn't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saf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it isn’t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the right thing to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is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Will this stand the test of public scrutin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wo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If something terrible were to happen could I defend my ac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you ca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just, balanced, and fai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is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How will it make me feel about myself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’s lousy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Does this choice lead to the greatest good for the greatest numb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does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Would you do this in front of an adult that you respec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you wouldn’t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105520"/>
            <a:ext cx="883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Californian FB"/>
              </a:rPr>
              <a:t>Taken from:</a:t>
            </a:r>
            <a:r>
              <a:rPr b="0" lang="en-US" sz="1600" spc="-1" strike="noStrike">
                <a:solidFill>
                  <a:srgbClr val="336666"/>
                </a:solidFill>
                <a:latin typeface="Californian FB"/>
              </a:rPr>
              <a:t>                                                                                                                                                                                                                                 Hopper, Carolyn.  “Top Ten Questions You Should Ask Yourself When Making an Ethical Decision.”       (1998).  University 101 Instructor’s Resource Manual Middle Tennessee State University.  http://www.mtsu.edu/~u101irm/ethicques.html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41:34Z</dcterms:created>
  <dc:creator>admingg</dc:creator>
  <dc:description/>
  <dc:language>en-US</dc:language>
  <cp:lastModifiedBy>admingg</cp:lastModifiedBy>
  <dcterms:modified xsi:type="dcterms:W3CDTF">2008-07-24T16:19:44Z</dcterms:modified>
  <cp:revision>8</cp:revision>
  <dc:subject/>
  <dc:title>What is ethic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